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17A-9BA4-4E73-9427-CC971286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D51-064C-40B9-B9EA-CEEA8550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4C9-2371-4BB6-8E3A-9674726A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907-F1C6-49A1-9471-EE47D471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B11-C86D-45EC-9EB9-C85D2BD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BE9-E1F5-41C6-AAC6-240C806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7E5-CD7E-405F-8AD1-7BDADEE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7BE-F967-4C61-BA49-374F6E3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4DE-1BB9-43CF-B764-16EA1CDD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7FE-D652-45EF-9C28-73B76C0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BAA-3B7B-4584-B564-A761052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E63-2472-4003-8A77-141F962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7A751-41C3-4B76-A26E-E75699E63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307E2-78D0-4A7C-B416-81788C9B6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kind of simple machine is pictured in the diagram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875200" y="3622680"/>
            <a:ext cx="3067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P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inclined pla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le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pull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ainp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7.6 Lever and Pulley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irst class le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nge the direction of your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distance you mo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649600" y="0"/>
            <a:ext cx="6494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econd-class lev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distance you mo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90440" y="3906720"/>
            <a:ext cx="7832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ird-class lev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distance you mo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90440" y="3797280"/>
            <a:ext cx="815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fixed pulley changes the direction of the for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985080" y="2890800"/>
            <a:ext cx="21589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moveable pulley decreases the force you use and increases the distance you m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46640" y="29797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block and tackle decreases the force you use and increases the distance you mov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570640" y="2957400"/>
            <a:ext cx="24541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6:30:10Z</dcterms:created>
  <dc:creator>Caroline Roth</dc:creator>
  <dc:description/>
  <dc:language>en-US</dc:language>
  <cp:lastModifiedBy>Caroline Roth</cp:lastModifiedBy>
  <dcterms:modified xsi:type="dcterms:W3CDTF">2011-02-27T20:19:32Z</dcterms:modified>
  <cp:revision>4</cp:revision>
  <dc:subject/>
  <dc:title>7.6 Lever and Pulley Class Notes</dc:title>
</cp:coreProperties>
</file>